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8E6-4351-4686-BEA2-CF538A98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36B5-531A-4450-AE7D-7751B8FD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8BD-689A-4FB5-8934-BAA2B718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4FC2-2820-40DF-932C-298C9429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2C4E-767C-43DD-8898-D0E0B50D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CA6C-157F-472B-A600-FC9C03EC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25FD-2EC4-42D0-9F93-1837558A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CD0E-6327-4141-9413-655470C3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37EC-A2D6-49B6-BF55-2F781CC9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0F11-007A-40A6-B744-7D2321D3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7922-1772-47DC-A955-C20311E4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77B-BB0B-45F2-8038-8B1276ED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74EB-11EF-4FDD-97BE-5784B48E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C0ED-7C1B-49E0-9D5C-6EB3B5FE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8243-ECE1-4C58-84E0-68060EA9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2DD3-34FD-4451-A8B7-6ED747E3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2CBC-59E4-4445-9C9B-37AA44A9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31D-93B9-43ED-958C-3D4EEA0E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9753-4281-4BD5-8CE6-DFC3415D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EF53-CF9F-4C7E-9A29-7941BDCD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F70-DDD1-42F8-B442-E258F0E0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992-9850-4CA3-910B-2F8B66AD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8DF7-4E5E-4BF4-9E09-33EE2DDB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B4F2-E786-4B80-A207-435A7C6E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F1CF-3319-46D4-A023-5CCB3406D2F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E2F6-F7EC-4065-AD9C-F75F63F6C3F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Japanese Histor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Jessica R. and Taryn 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29210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suka Period (592-645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dhism arrived in Jap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ed by the emperor and several other powerful cla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erial family intermarried with other powerful clans, such as the Soga clan, and the Fujiwara cl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ra Period (710-794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ital moved to what is present day N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ture first appears from Japan, mostly from the imperial cou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people were Shinto, but there were also few Buddh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rea was better governed, and tax collection became more rout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ins were minted, if not widely used by the Japanese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irst known outbreak of smallpox threatens the area and spreads from Kyushu to N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ian Period (794-1185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eriod is considered the last in traditional Japanese histor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mperial court is at it’s peak during these ti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marks the beginning of the Samurai cul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apital is moved again, to Kyoto this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is said to be the most peaceful and prosperous time in Japanese hist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Feudal Japa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panese emperors had lost much of their power, and the land was ruled by powerful families and military leaders called Shoguns. This type of government was called a Shogun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56496" b="0"/>
          <a:stretch/>
        </p:blipFill>
        <p:spPr>
          <a:xfrm>
            <a:off x="3809880" y="304920"/>
            <a:ext cx="153360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amakura Period (1185-1333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med after the Kamakura Shogunate that ruled Japan during this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gols tried to invade Jap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ttles with the Mongols weakened Japan, and although they were successful in driving the Mongols away, the Shogunate eventually lost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 Daigo became emperor for a short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romachi Period (1336-1573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shikaga Shogunate took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st shogun of this period was Ashikaga Yoshia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evicted from the capital (Kyoto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ortuguese ship arrived in Japan, teaching the Japanese about firea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at time, a few other trading ships reached Japan, and continued to open the country’s eyes to new technolog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zuchi-Momoyama (1568-1600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y parts of Japan were united again and the military grew strong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yotomi Hideyoshi was a military leader who wanted to take over Korea and Ch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sent troops of 160,000 to Korea, but they failed, and returned to Japa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598, Toyotomi died, and the Japanese dropped the idea of taking over it’s neighboring countr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ring this time, many Koreans were brought to Japan, and they brought artistic ability and knowledge with th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do Period (1603-1868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ring this period, Japan was ruled by about 200 small rulers called Daimy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st powerful of these was called the Tokogawa clan. They ruled for fifteen generations from a place called Edo, which is near present day Toky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ighest group in society became samurais. Agriculturalists and artists were considered lower class than the samur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y new art forms were created, including a new form of block printing, and two types of theater, the Kabuki and Bunrak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de and commerce continued to rise during the Edo peri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868, the Boshun war took place, resulting in the end of the Shogunate rule, putting Japan under the rule of an emperor once m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icture of a Group of Samura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astles from the Feudal Period in Japa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aka cast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01956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rst appearance of Japan in Histo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pan was first mentioned in history by the Chinese, in 57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Japanese were referred to as the “Wa” people by the Chine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hinese described them as a people living without a writing system or political cohe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a greatly influenced their culture, bringing them Buddhism, government, and a basic system of wri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rea also brought some cultural influ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333960" cy="2648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733920" y="1905120"/>
            <a:ext cx="5257800" cy="3943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ijo Castle or Shogun’s Palace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ocated in Kyot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imeji Castle </a:t>
            </a:r>
            <a:br>
              <a:rPr sz="4000"/>
            </a:b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the largest Castle in Japan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Nicknamed white heron from white wing architecture 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Quiz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hat were the Japanese first called by the Chinese people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“Wa” people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here did the Ainu people originate from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Hokkaido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hat is the name of the first period in prehistoric Japanese history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Jomon Period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hat was the most powerful clan in ancient Japan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Prehistoric Japa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idence has been found of people living in Japan since just after the first ice age, in the form of tools that are up to 32,000 years o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46376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Fujiwara clan, or the Soga clan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hen did the first known outbreak of smallpox occur in Japan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During the Nara Period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hich war resulted in the end of the Shogunate rule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Boshun war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here is Nijo castle or the Shogun’s palace located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Kyoto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hich castle is the largest in Japan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Himeji castle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hat year did Toyotomi die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inu-the Native People of Japa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inu are the first known people to have inhabited Jap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said to have originated on Hokkai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mainly hunters, fishers, and gather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ll blooded ainu people are mostly fair skinned, the men having dense hair grow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 1598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During what period was the imperial court at it’s peak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Heian period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IE BREAKER: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 what year was the Boshun war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 1868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inu Peop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440160" cy="4165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419720" y="1295280"/>
            <a:ext cx="4267080" cy="2533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267080" y="3657600"/>
            <a:ext cx="2557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omon Period (13000BC to 300 BC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ing this period the Japanese were hunters and gatherers, main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era was named after the pottery style of the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lived in wood stilt houses or pit dwellings, and they may have had an early form of 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have been some tools and artifacts found from this time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ayoi Period (300 BC to 300 AD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ce culture was introduced during this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classes began to evol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s of the country were divided and controlled by powerful land ow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technologies were arriving from China and Ko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ncient and Classical Japa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206532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ofun Period (300-538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around 400 AD the country was united as Yamate Japan, with it’s political center around the province of Yamato. (Hokkaido was not yet included in Jap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Yamato court controlled clans in Kyushu and Hons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2:06:35Z</dcterms:created>
  <dc:creator>Stephan</dc:creator>
  <dc:description/>
  <dc:language>en-US</dc:language>
  <cp:lastModifiedBy>Jessica</cp:lastModifiedBy>
  <dcterms:modified xsi:type="dcterms:W3CDTF">2008-11-19T05:17:06Z</dcterms:modified>
  <cp:revision>19</cp:revision>
  <dc:subject/>
  <dc:title>Ancient Japan</dc:title>
</cp:coreProperties>
</file>